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96B-6E10-42E5-917C-AA5EBED4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76F-8375-47D2-ACC3-3924BAA0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C8B-0A1E-439C-8C21-36B312BE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330-CA34-4067-AE48-AEDFFF6B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F84-5685-4AE9-AA3E-7DB7596B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BED-4AA8-4EE2-9733-F9B6486B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72E-D54B-4FA0-947D-D3AF3437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0A6-AF85-41F3-9545-8919532A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929-35B5-4C11-85EF-C6AF331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0E6D-56E4-4B11-ADC6-9A04223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A6A-B9A2-4695-819A-7DEE594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67DD-880D-4492-93C7-42B0BE7F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6617-A39E-449D-AACA-F7D0CE59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239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Using FTD 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es the Marketing Offe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execution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and time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ing to both customers and recip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50 pre-built letter, postcard and email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aign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let’s show you have to run a few campaig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mail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ing a marketing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4:25:45Z</dcterms:created>
  <dc:creator>MTAC3740</dc:creator>
  <dc:description/>
  <dc:language>en-US</dc:language>
  <cp:lastModifiedBy>MTAC3740</cp:lastModifiedBy>
  <dcterms:modified xsi:type="dcterms:W3CDTF">2008-09-12T14:56:44Z</dcterms:modified>
  <cp:revision>2</cp:revision>
  <dc:subject/>
  <dc:title>Slide 1</dc:title>
</cp:coreProperties>
</file>